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F3FE-0931-4202-97A0-1859D8A2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E255-A459-4120-A074-CFA39A6F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9D67-BCDA-4BA8-84A6-5E041605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D298-5A48-41AA-9C0C-01C581114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C095-5C2A-4619-A666-58136697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4080-5F4B-4C8A-ABC2-63D11E7B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F1D9-1760-4615-B53F-5FFEACF2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FBED-14D1-489F-A4E3-BE6A64D6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F622-9ECF-4852-9087-6E65EF33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C88D-9394-4B09-A412-B41FFDF5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7D1B-0832-4AC8-885E-D18FA19A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6133-FE4E-4899-ACC5-769E3CB3E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751F-0AFD-46B2-98B6-0BAF52E3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3B84-EA67-4D14-B5A3-3C183C35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AB9E-C9D5-4C5E-941E-09467CEE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4005-EEA0-45F7-9899-E5A2F627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6F77-A99E-408A-9CEF-4F5956C92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63A0-3012-47DB-84E9-4F476551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455E-FF4F-4E8B-A174-E44D037F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0591-E4F5-4CC7-A7D9-59934029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08EE-E17E-4B30-995F-E0223C08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F855-D9FB-47C7-BD2F-CD93A089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8E4E-E8C1-4DD8-AF55-4F3953D7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A54A-858A-4A9D-80CD-78D5EE56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33FC-215F-4931-B75F-7FA087F87FA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49C0-061D-4FC1-B8E4-288382CFB3D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DEA OF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BF28C2DC-F65D-418C-B83D-34B09B7BAAF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66840" y="1274760"/>
            <a:ext cx="8062920" cy="50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John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14.1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ιστευετε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ς τον θεον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you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belie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in G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John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11.48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παντες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ιστευσουσιν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εἰς αὐτον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everyon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will belie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in h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John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7.5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οἱ ἀδελφοι αὐτου  ἐπιστευον εἰς αὐτο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is brothers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were believing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in h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John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4.50: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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πιστευσεν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ὁ ἀνθρωπος τῳ λογῳ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the man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believe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the w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lterations in a verb change its tense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πιστευετε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believe;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πιστευ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ουσιν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will believe; </a:t>
            </a:r>
            <a:r>
              <a:rPr b="0" lang="en-GB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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πιστευον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were believing; </a:t>
            </a:r>
            <a:r>
              <a:rPr b="0" lang="en-GB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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πιστευ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εν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believ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952560" y="1785960"/>
            <a:ext cx="72388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6.5.1 Words beginning with a vow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42960" y="3143160"/>
            <a:ext cx="6058080" cy="17704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Watch out when an </a:t>
            </a: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1" lang="el-GR" sz="40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l-GR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GB" sz="3500" spc="-1" strike="noStrike">
                <a:solidFill>
                  <a:srgbClr val="ffffff"/>
                </a:solidFill>
                <a:latin typeface="Arial"/>
              </a:rPr>
              <a:t>augment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) is added to a word beginning with a vowel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F2CEF278-814A-498D-A6E1-89775F99C27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1108F1DF-7319-4FDE-85DC-3F92FF5DC40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428840" y="5000760"/>
          <a:ext cx="6229440" cy="1066680"/>
        </p:xfrm>
        <a:graphic>
          <a:graphicData uri="http://schemas.openxmlformats.org/drawingml/2006/table">
            <a:tbl>
              <a:tblPr/>
              <a:tblGrid>
                <a:gridCol w="566640"/>
                <a:gridCol w="565200"/>
                <a:gridCol w="566640"/>
                <a:gridCol w="566640"/>
                <a:gridCol w="565200"/>
                <a:gridCol w="568440"/>
                <a:gridCol w="565200"/>
                <a:gridCol w="566640"/>
                <a:gridCol w="566640"/>
                <a:gridCol w="565200"/>
                <a:gridCol w="5670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ῳ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2"/>
          <p:cNvSpPr/>
          <p:nvPr/>
        </p:nvSpPr>
        <p:spPr>
          <a:xfrm>
            <a:off x="500040" y="4324320"/>
            <a:ext cx="458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pthongs follow the cha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01800" y="1428840"/>
          <a:ext cx="7358040" cy="2428920"/>
        </p:xfrm>
        <a:graphic>
          <a:graphicData uri="http://schemas.openxmlformats.org/drawingml/2006/table">
            <a:tbl>
              <a:tblPr/>
              <a:tblGrid>
                <a:gridCol w="1104840"/>
                <a:gridCol w="2181240"/>
                <a:gridCol w="1666800"/>
                <a:gridCol w="2405160"/>
              </a:tblGrid>
              <a:tr h="6080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cc66"/>
                          </a:solidFill>
                          <a:latin typeface="Greek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200" spc="-1" strike="noStrike">
                          <a:solidFill>
                            <a:srgbClr val="ffcc66"/>
                          </a:solidFill>
                          <a:latin typeface="Greek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υ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reek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ai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υ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reek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TextBox 6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39D1BA82-CAA8-4D66-8677-4F33A3611CF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098800" y="1843200"/>
            <a:ext cx="4800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6.5.2 Compoun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643040" y="3000240"/>
            <a:ext cx="5791320" cy="16945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Watch out when an </a:t>
            </a: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™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GB" sz="3500" spc="-1" strike="noStrike">
                <a:solidFill>
                  <a:srgbClr val="ffffff"/>
                </a:solidFill>
                <a:latin typeface="Arial"/>
              </a:rPr>
              <a:t>augment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) is added to a compound verb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12680" y="1928880"/>
          <a:ext cx="8929800" cy="3357360"/>
        </p:xfrm>
        <a:graphic>
          <a:graphicData uri="http://schemas.openxmlformats.org/drawingml/2006/table">
            <a:tbl>
              <a:tblPr/>
              <a:tblGrid>
                <a:gridCol w="1365120"/>
                <a:gridCol w="1621080"/>
                <a:gridCol w="2344680"/>
                <a:gridCol w="359892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u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k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λυ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λυ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setting f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 - ελυον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βαλλ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ξεβαλλ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throwing ou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 - εβαλλον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παγ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πηγ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depart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πο - εαγον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→ 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πο - ηγ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υναγ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υνηγ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gather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υν - εαγον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→ 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υν - ηγ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122"/>
          <p:cNvSpPr/>
          <p:nvPr/>
        </p:nvSpPr>
        <p:spPr>
          <a:xfrm>
            <a:off x="304920" y="127944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F9E8BE77-5508-425C-9F6C-0C4D63A79D6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500040" y="1565280"/>
            <a:ext cx="8001000" cy="3935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Observe the difference between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contraction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elision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+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γον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→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ἠγον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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+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ναβλεπον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→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νεβλεπον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 +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ναγον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→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νηγο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6A92B7F8-3E24-4D59-BF2C-2D6FA839058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973080" y="1504800"/>
            <a:ext cx="7143840" cy="17402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Watch out when an </a:t>
            </a:r>
            <a:r>
              <a:rPr b="1" lang="el-GR" sz="38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 is added to stem of a verb ending in a consonant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0200" y="3786120"/>
          <a:ext cx="4157640" cy="1736640"/>
        </p:xfrm>
        <a:graphic>
          <a:graphicData uri="http://schemas.openxmlformats.org/drawingml/2006/table">
            <a:tbl>
              <a:tblPr/>
              <a:tblGrid>
                <a:gridCol w="1994040"/>
                <a:gridCol w="525600"/>
                <a:gridCol w="493560"/>
                <a:gridCol w="654120"/>
                <a:gridCol w="4903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Box 3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SUFFI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7AD57F34-45BC-4FEB-99B7-6E208DD2EB5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85840" y="1643040"/>
          <a:ext cx="8572320" cy="2422440"/>
        </p:xfrm>
        <a:graphic>
          <a:graphicData uri="http://schemas.openxmlformats.org/drawingml/2006/table">
            <a:tbl>
              <a:tblPr/>
              <a:tblGrid>
                <a:gridCol w="1812960"/>
                <a:gridCol w="2259000"/>
                <a:gridCol w="2387520"/>
                <a:gridCol w="2112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ual F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λεπ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λεψ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s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λεπ - σ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πτιζ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πτισ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bapt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πτζ - σ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νοιγ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νοιξ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op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νοιγ - σ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47"/>
          <p:cNvSpPr/>
          <p:nvPr/>
        </p:nvSpPr>
        <p:spPr>
          <a:xfrm>
            <a:off x="252360" y="11365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0"/>
          <p:cNvSpPr/>
          <p:nvPr/>
        </p:nvSpPr>
        <p:spPr>
          <a:xfrm>
            <a:off x="714240" y="4259160"/>
            <a:ext cx="7572600" cy="18673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cause the Aorist involves the addition of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refix and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uffix, both sets of complications can occur. Thus the aorist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οιγ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ἠνοιξ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ε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νοι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γσ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SUFFI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57903A76-FCCA-4FDF-8D8C-3AE726CC49B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1000080" y="1212840"/>
            <a:ext cx="63914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γον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s really </a:t>
            </a:r>
            <a:r>
              <a:rPr b="0" lang="en-GB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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ἐ - ἀγον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nd thus is an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mperfec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νοιξω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s really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νοιγ - σω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nd thus a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Futur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73200" y="2438280"/>
            <a:ext cx="7810560" cy="15706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Very few verbs begin with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lmost no verbs end in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ψ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ξ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or a single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Futur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ris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914400" y="4191120"/>
            <a:ext cx="731520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ἐχ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(I have) is unusu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mperfec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εἰχ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 being augmented to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εἰ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 not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ἠ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Futur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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ἑξ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χ 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+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σ </a:t>
            </a:r>
            <a:r>
              <a:rPr b="0" lang="en-GB" sz="25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ξ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s expected, but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ἑ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 not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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73080" y="41400"/>
            <a:ext cx="89852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EALING WITH THE PREFIX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SUF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DC374707-6A91-42FE-8B66-512AA51067A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952560" y="2214720"/>
            <a:ext cx="723888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the Future and the Aorist the addition of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uffix causes two chan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)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lengthen to a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i) The endings are now be next to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not the weak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so there are no contr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73080" y="258840"/>
            <a:ext cx="898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8 TENSES IN THE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-εω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B23D397A-07E1-49B9-8CC0-AF518B072DB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3"/>
          <p:cNvSpPr/>
          <p:nvPr/>
        </p:nvSpPr>
        <p:spPr>
          <a:xfrm>
            <a:off x="73080" y="258840"/>
            <a:ext cx="898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8 TENSES IN THE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-εω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548C2504-8820-4FC4-A3D9-25992BA9E22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5440" y="1357200"/>
          <a:ext cx="8475840" cy="4741920"/>
        </p:xfrm>
        <a:graphic>
          <a:graphicData uri="http://schemas.openxmlformats.org/drawingml/2006/table">
            <a:tbl>
              <a:tblPr/>
              <a:tblGrid>
                <a:gridCol w="1695600"/>
                <a:gridCol w="1693800"/>
                <a:gridCol w="1695240"/>
                <a:gridCol w="1695600"/>
                <a:gridCol w="1695600"/>
              </a:tblGrid>
              <a:tr h="65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ου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s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ου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ου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α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pl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ει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ει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α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ουσιν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ουσ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ου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ου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214200" y="1214280"/>
            <a:ext cx="871560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Four Tenses:</a:t>
            </a:r>
            <a:r>
              <a:rPr b="0" lang="el-GR" sz="2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Present, Future, Imperfect, Aori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ifferent tenses communicate bot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) 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the action is taking place (present, future, past etc.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) 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spec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the nature of the action – was it a process, is it completed etc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μεν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note adde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 = ‘w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il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untie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DEA OF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12B789D5-31D3-451E-BF8A-0C096EDFF8F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75DB56F9-47BB-4F83-BB88-10B01A8481A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887400" y="1511280"/>
          <a:ext cx="6899400" cy="2631960"/>
        </p:xfrm>
        <a:graphic>
          <a:graphicData uri="http://schemas.openxmlformats.org/drawingml/2006/table">
            <a:tbl>
              <a:tblPr/>
              <a:tblGrid>
                <a:gridCol w="1565280"/>
                <a:gridCol w="1795320"/>
                <a:gridCol w="739800"/>
                <a:gridCol w="700200"/>
                <a:gridCol w="600120"/>
                <a:gridCol w="149868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se: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211"/>
          <p:cNvSpPr/>
          <p:nvPr/>
        </p:nvSpPr>
        <p:spPr>
          <a:xfrm>
            <a:off x="785880" y="4572000"/>
            <a:ext cx="71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e different tenses are formed b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dding </a:t>
            </a: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prefixes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suffixes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to the st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y having a </a:t>
            </a: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different set of endings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179280" y="1173240"/>
            <a:ext cx="8329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efixes and suffixes are the easiest to sp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wo past tenses (Aorist and Imperfect) have an </a:t>
            </a:r>
            <a:r>
              <a:rPr b="1" lang="el-GR" sz="27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refix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augment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Future and the Aorist both have a </a:t>
            </a:r>
            <a:r>
              <a:rPr b="1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uff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886040" y="3289320"/>
          <a:ext cx="5400720" cy="2971800"/>
        </p:xfrm>
        <a:graphic>
          <a:graphicData uri="http://schemas.openxmlformats.org/drawingml/2006/table">
            <a:tbl>
              <a:tblPr/>
              <a:tblGrid>
                <a:gridCol w="1203120"/>
                <a:gridCol w="816120"/>
                <a:gridCol w="1171440"/>
                <a:gridCol w="685800"/>
                <a:gridCol w="15242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suf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f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</a:t>
                      </a:r>
                      <a:r>
                        <a:rPr b="1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suf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</a:t>
                      </a:r>
                      <a:r>
                        <a:rPr b="1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f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1E165F47-76A3-4159-B5C2-B0031BA3788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339C690D-3A5F-4EDE-A5B5-45D93312F06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34920" y="1217520"/>
          <a:ext cx="7272360" cy="3568680"/>
        </p:xfrm>
        <a:graphic>
          <a:graphicData uri="http://schemas.openxmlformats.org/drawingml/2006/table">
            <a:tbl>
              <a:tblPr/>
              <a:tblGrid>
                <a:gridCol w="1785960"/>
                <a:gridCol w="1219320"/>
                <a:gridCol w="1752480"/>
                <a:gridCol w="2514600"/>
              </a:tblGrid>
              <a:tr h="70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 Te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p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glish Equival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unty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29"/>
          <p:cNvSpPr/>
          <p:nvPr/>
        </p:nvSpPr>
        <p:spPr>
          <a:xfrm>
            <a:off x="800280" y="4884840"/>
            <a:ext cx="754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undefine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spect may be used for two reas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 implication as to manner of a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unctilliar (‘one time’) se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428760" y="1285920"/>
            <a:ext cx="7272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ifference between the Imperfect and the Aor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: Un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unt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: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used to u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was unt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began to u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455760" y="4986360"/>
            <a:ext cx="8116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Matthew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5.2: He opened his mouth (aorist) and began to teach (imperfec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25109A28-C178-4BBE-9984-A6B9F46FB56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95120" y="1357200"/>
          <a:ext cx="8734680" cy="3286080"/>
        </p:xfrm>
        <a:graphic>
          <a:graphicData uri="http://schemas.openxmlformats.org/drawingml/2006/table">
            <a:tbl>
              <a:tblPr/>
              <a:tblGrid>
                <a:gridCol w="865440"/>
                <a:gridCol w="2138400"/>
                <a:gridCol w="1860480"/>
                <a:gridCol w="2325600"/>
                <a:gridCol w="1544760"/>
              </a:tblGrid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we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a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we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we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we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249"/>
          <p:cNvSpPr/>
          <p:nvPr/>
        </p:nvSpPr>
        <p:spPr>
          <a:xfrm>
            <a:off x="509760" y="4756320"/>
            <a:ext cx="5562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erson sing. is ‘he’, ‘she’, or ‘it’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sent can be ‘I loosen’, ‘You loosen’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erfect can be 'I used to untie'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82E4FA1C-65F1-4B94-8CB1-7D17D14449D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500040" y="1192320"/>
          <a:ext cx="8210520" cy="3139920"/>
        </p:xfrm>
        <a:graphic>
          <a:graphicData uri="http://schemas.openxmlformats.org/drawingml/2006/table">
            <a:tbl>
              <a:tblPr/>
              <a:tblGrid>
                <a:gridCol w="1546200"/>
                <a:gridCol w="1663920"/>
                <a:gridCol w="1800000"/>
                <a:gridCol w="1560600"/>
                <a:gridCol w="16398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sing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ε(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ε(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α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pl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ετ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α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ουσι(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ουσι(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165"/>
          <p:cNvSpPr/>
          <p:nvPr/>
        </p:nvSpPr>
        <p:spPr>
          <a:xfrm>
            <a:off x="304920" y="4335480"/>
            <a:ext cx="8534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uture endings = Present e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sent, Future, Imperfect begin with ‘o’ or ‘e’ sound, Aorist with ‘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erson pl. simi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able n in Imperfect and Aorist 3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erson sing., as in Present and Future 3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erson p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3F78542F-8EA6-49C0-B7AF-9A63303159E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285840" y="1143000"/>
            <a:ext cx="8501040" cy="52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ὁ Ἰησους </a:t>
            </a:r>
            <a:r>
              <a:rPr b="1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διδασκεν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 ἐν τῃ συναγωγῃ και πολλοι </a:t>
            </a:r>
            <a:r>
              <a:rPr b="1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πιστευσαν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ἐδιδασκε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s Imperfect, therefore describing a past process – 'Jesus was in the process of teaching in the synagogue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ἐπιστευσα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s Aorist, therefore describing a past undefined (not a process) action – 'many believed' or 'many came to believe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Jesus was teaching in the synagogue and many believed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ὁ θεος </a:t>
            </a:r>
            <a:r>
              <a:rPr b="1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πεμπεν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 τους ἀγγελους. ἀλλα νυν </a:t>
            </a:r>
            <a:r>
              <a:rPr b="1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σμεν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 μονο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ἐπεμπε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s Imperfect, therefore describing a past process – 'God used to send messengers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ἐσμε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s Present, therefore describing the current situation – 'we are alone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God used to send messengers, but now we are al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DB4023B2-C50B-422C-8D6A-5579FF422F9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8:15:50Z</dcterms:created>
  <dc:creator>Sarah</dc:creator>
  <dc:description/>
  <dc:language>en-US</dc:language>
  <cp:lastModifiedBy>Sarah</cp:lastModifiedBy>
  <dcterms:modified xsi:type="dcterms:W3CDTF">2008-09-07T14:27:48Z</dcterms:modified>
  <cp:revision>55</cp:revision>
  <dc:subject/>
  <dc:title>Slide 1</dc:title>
</cp:coreProperties>
</file>